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B5D-4F64-4124-8791-C124B86B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169-285E-4430-8411-919E2650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1924-CAA8-43BD-9C8E-0BFB497D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23D5-415B-428D-A92F-BFB6C06B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B0F1-C993-4CA3-934A-43B45AB5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F1EB-A2BF-4F5A-8204-88662627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0083-439F-4158-9230-380181D1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F0EF-81BA-4F60-A937-E4C7FB45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26B9-9233-46EA-A48F-8AAD8D30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D590-B13D-4080-BA90-71E6D53E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311A-6003-4FFA-BDA5-ABF7E628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EFD-0EF8-4FC0-A148-8EDED2E8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2DE4-2663-4854-B371-DF8CC707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B1F6-1E29-48D6-8274-1BDFB35A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DC26-70CC-4791-8BFD-6EF4DB59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18AB-4767-4CF8-B95C-0EE610B7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6159-F26F-43C1-9D2A-9C7C685C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382-BF2D-4C2F-B141-4BE78A3F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34B-7F8A-48EC-80CC-C30800CA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393-776A-4888-B32D-34CF09A9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1317-E4F3-4CFB-A8EC-C70D971C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B0F-6B3B-4681-9229-21556068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5DB-A5F5-4BB8-A8D3-DB472213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E2B5-D445-4C3A-82CC-F8420219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2BCB-39B3-4E2C-A82D-F438FEBE203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D096-2A7C-4ADD-9395-FF15CE0B3F6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en.wikipedia.org/wiki/File:HgOpowder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ogle.ca/imgres?imgurl=http://www.chemicool.com/elements/images/copper-sulfate.jpg&amp;imgrefurl=http://www.chemicool.com/elements/copper.html&amp;usg=__BGkMeS1G32spb2rHff-KVBn2oiI=&amp;h=250&amp;w=360&amp;sz=20&amp;hl=en&amp;start=7&amp;zoom=1&amp;um=1&amp;itbs=1&amp;tbnid=cnY1Pioq6y2HTM:&amp;tbnh=84&amp;tbnw=121&amp;prev=/images%3Fq%3Dcopper%2Bsulfate%26um%3D1%26hl%3Den%26sa%3DN%26rls%3Dcom.microsoft:en-us:IE-SearchBox%26rlz%3D1I7ADBS_en%26tbs%3Disch:1&amp;ei=slZnTbOaDoKglAfP5dCCA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google.ca/imgres?imgurl=http://www.taiwantrade.com.tw/MAIN//resources/member/1759/productcatalog//CopperSulphateBasic.jpg&amp;imgrefurl=http://www.taiwantrade.com.tw/MAIN/en_front/searchserv.do%3Fmethod%3DlistProductProductDetail%26locale%3D2%26MEMBER_TYPE%3D4%26WEB_OPEN%3D0%26DOMAIN_NAME%3Dprowellcorporation%26DOMAIN_NAME_FLAG%3D0%26company_id%3D1759%26catalog_id%3D151211%26come_soon%3D0&amp;usg=__cQHe94X25gyFa97Cv0_KXCGQKTQ=&amp;h=269&amp;w=270&amp;sz=12&amp;hl=en&amp;start=31&amp;zoom=1&amp;um=1&amp;itbs=1&amp;tbnid=KOB5b0Qei2yf_M:&amp;tbnh=113&amp;tbnw=113&amp;prev=/images%3Fq%3Dcopper%2Bsulfate%26start%3D20%26um%3D1%26hl%3Den%26sa%3DN%26rls%3Dcom.microsoft:en-us:IE-SearchBox%26rlz%3D1I7ADBS_en%26ndsp%3D20%26tbs%3Disch:1&amp;ei=aFdnTf_PGIO8lQfv78CCA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emical Reactions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343400" cy="2869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3938400" cy="3243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666880" y="1143000"/>
            <a:ext cx="3581640" cy="379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1219320"/>
            <a:ext cx="320040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rite a </a:t>
            </a: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skeleton equation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for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lid iron (III) sulfide reacts with gaseous hydrogen chloride to form iron (III) chloride and  hydrogen sulfide g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FeS</a:t>
            </a:r>
            <a:r>
              <a:rPr b="1" lang="en-US" sz="2800" spc="-1" strike="noStrike" baseline="-25000">
                <a:solidFill>
                  <a:srgbClr val="808000"/>
                </a:solidFill>
                <a:latin typeface="Tahoma"/>
              </a:rPr>
              <a:t>(s)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 + HCl</a:t>
            </a:r>
            <a:r>
              <a:rPr b="1" lang="en-US" sz="2800" spc="-1" strike="noStrike" baseline="-25000">
                <a:solidFill>
                  <a:srgbClr val="808000"/>
                </a:solidFill>
                <a:latin typeface="Tahoma"/>
              </a:rPr>
              <a:t>(g)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Arial"/>
                <a:ea typeface="Arial"/>
              </a:rPr>
              <a:t>→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 FeCl</a:t>
            </a:r>
            <a:r>
              <a:rPr b="1" lang="en-US" sz="2800" spc="-1" strike="noStrike" baseline="-25000">
                <a:solidFill>
                  <a:srgbClr val="808000"/>
                </a:solidFill>
                <a:latin typeface="Tahoma"/>
              </a:rPr>
              <a:t>2(s)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 + H</a:t>
            </a:r>
            <a:r>
              <a:rPr b="1" lang="en-US" sz="2800" spc="-1" strike="noStrike" baseline="-25000">
                <a:solidFill>
                  <a:srgbClr val="808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808000"/>
                </a:solidFill>
                <a:latin typeface="Tahoma"/>
              </a:rPr>
              <a:t>(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itric acid dissolved in water reacts with solid sodium carbonate to form liquid water and carbon dioxide gas and sodium nitrate dissolved in w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1" lang="en-US" sz="2800" spc="-1" strike="noStrike" baseline="-25000">
                <a:solidFill>
                  <a:srgbClr val="808000"/>
                </a:solidFill>
                <a:latin typeface="Tahoma"/>
              </a:rPr>
              <a:t>(aq)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 + Na</a:t>
            </a:r>
            <a:r>
              <a:rPr b="1" lang="en-US" sz="2800" spc="-1" strike="noStrike" baseline="-25000">
                <a:solidFill>
                  <a:srgbClr val="808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CO</a:t>
            </a:r>
            <a:r>
              <a:rPr b="1" lang="en-US" sz="2800" spc="-1" strike="noStrike" baseline="-25000">
                <a:solidFill>
                  <a:srgbClr val="808000"/>
                </a:solidFill>
                <a:latin typeface="Tahoma"/>
              </a:rPr>
              <a:t>3(g)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Arial"/>
                <a:ea typeface="Arial"/>
              </a:rPr>
              <a:t>→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 CO</a:t>
            </a:r>
            <a:r>
              <a:rPr b="1" lang="en-US" sz="2800" spc="-1" strike="noStrike" baseline="-25000">
                <a:solidFill>
                  <a:srgbClr val="808000"/>
                </a:solidFill>
                <a:latin typeface="Tahoma"/>
              </a:rPr>
              <a:t>2(g)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 + H</a:t>
            </a:r>
            <a:r>
              <a:rPr b="1" lang="en-US" sz="2800" spc="-1" strike="noStrike" baseline="-25000">
                <a:solidFill>
                  <a:srgbClr val="808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808000"/>
                </a:solidFill>
                <a:latin typeface="Tahoma"/>
              </a:rPr>
              <a:t>O</a:t>
            </a:r>
            <a:r>
              <a:rPr b="1" lang="en-US" sz="2800" spc="-1" strike="noStrike" baseline="-25000">
                <a:solidFill>
                  <a:srgbClr val="808000"/>
                </a:solidFill>
                <a:latin typeface="Tahoma"/>
              </a:rPr>
              <a:t>(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6600" y="325440"/>
            <a:ext cx="76276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ow, read these equation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5760" y="1409400"/>
            <a:ext cx="895824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e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(s)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+ 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Fe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3(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u</a:t>
            </a:r>
            <a:r>
              <a:rPr b="0" lang="en-US" sz="3500" spc="-1" strike="noStrike" baseline="-25000">
                <a:solidFill>
                  <a:srgbClr val="ffffff"/>
                </a:solidFill>
                <a:latin typeface="Tahoma"/>
              </a:rPr>
              <a:t>(s)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 + AgNO</a:t>
            </a:r>
            <a:r>
              <a:rPr b="0" lang="en-US" sz="3500" spc="-1" strike="noStrike" baseline="-25000">
                <a:solidFill>
                  <a:srgbClr val="ffffff"/>
                </a:solidFill>
                <a:latin typeface="Tahoma"/>
              </a:rPr>
              <a:t>3(aq)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 Ag</a:t>
            </a:r>
            <a:r>
              <a:rPr b="0" lang="en-US" sz="3500" spc="-1" strike="noStrike" baseline="-25000">
                <a:solidFill>
                  <a:srgbClr val="ffffff"/>
                </a:solidFill>
                <a:latin typeface="Tahoma"/>
              </a:rPr>
              <a:t>(s)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 + Cu(NO</a:t>
            </a:r>
            <a:r>
              <a:rPr b="0" lang="en-US" sz="35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500" spc="-1" strike="noStrike" baseline="-25000">
                <a:solidFill>
                  <a:srgbClr val="ffffff"/>
                </a:solidFill>
                <a:latin typeface="Tahoma"/>
              </a:rPr>
              <a:t>2(aq)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 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+ 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893960" y="3957480"/>
                <a:ext cx="2347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 Pt  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2120" y="248760"/>
            <a:ext cx="86169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Balanced Chemical Equa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126800"/>
            <a:ext cx="8915400" cy="509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cording to the Law of Conservation of Mass: </a:t>
            </a:r>
            <a:r>
              <a:rPr b="1" lang="en-US" sz="3200" spc="-1" strike="noStrike" u="sng">
                <a:solidFill>
                  <a:srgbClr val="dbbd71"/>
                </a:solidFill>
                <a:uFillTx/>
                <a:latin typeface="Tahoma"/>
              </a:rPr>
              <a:t>atoms aren’t created or destroyed in a chemical reactio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they are just rearrang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ll the atoms we </a:t>
            </a: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Tahoma"/>
              </a:rPr>
              <a:t>start wi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n the reactants we must </a:t>
            </a: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Tahoma"/>
              </a:rPr>
              <a:t>end up with</a:t>
            </a: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 the products</a:t>
            </a: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 (meaning: balanced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 balanced equation has the same number of each element </a:t>
            </a:r>
            <a:r>
              <a:rPr b="0" i="1" lang="en-US" sz="3200" spc="-1" strike="noStrike" u="sng">
                <a:solidFill>
                  <a:srgbClr val="dbbd71"/>
                </a:solidFill>
                <a:uFillTx/>
                <a:latin typeface="Tahoma"/>
              </a:rPr>
              <a:t>on both sid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of the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ules for balancing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83908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ssemble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rrect formul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for all the reactants and products, using “+” and 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→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unt the number of atoms of each type appearing on both 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lance the elements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one at a tim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by adding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coefficient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(the numbers in front) where you need more - </a:t>
            </a:r>
            <a:r>
              <a:rPr b="1" lang="en-US" sz="2800" spc="-1" strike="noStrike" u="sng">
                <a:solidFill>
                  <a:srgbClr val="dbbd71"/>
                </a:solidFill>
                <a:uFillTx/>
                <a:latin typeface="Tahoma"/>
              </a:rPr>
              <a:t>save balancing the H and O until LAST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Tahoma"/>
              </a:rPr>
              <a:t>(hint: I prefer to save O until the </a:t>
            </a:r>
            <a:r>
              <a:rPr b="1" i="1" lang="en-US" sz="2800" spc="-1" strike="noStrike" u="sng">
                <a:solidFill>
                  <a:srgbClr val="dbbd71"/>
                </a:solidFill>
                <a:uFillTx/>
                <a:latin typeface="Tahoma"/>
              </a:rPr>
              <a:t>very</a:t>
            </a:r>
            <a:r>
              <a:rPr b="1" lang="en-US" sz="2800" spc="-1" strike="noStrike">
                <a:solidFill>
                  <a:srgbClr val="dbbd71"/>
                </a:solidFill>
                <a:latin typeface="Tahoma"/>
              </a:rPr>
              <a:t> la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Double-Check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o make sure it is balanc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560" y="1409400"/>
            <a:ext cx="8839080" cy="468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ever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hange a </a:t>
            </a:r>
            <a:r>
              <a:rPr b="1" lang="en-US" sz="3200" spc="-1" strike="noStrike">
                <a:solidFill>
                  <a:srgbClr val="dbbd71"/>
                </a:solidFill>
                <a:latin typeface="Tahoma"/>
              </a:rPr>
              <a:t>subscrip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o balance an equation (You can only change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oefficient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f you change the subscript (formula) you are describing a different chemic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 is a different compound than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ever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ut a coefficient in the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iddl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of a formula; they must go only in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o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aCl is okay, but Na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 is no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352680" y="228600"/>
            <a:ext cx="213372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actice Balancing Examp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_AgN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+ _Cu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_Cu(N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+ _Ag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_Mg + _N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_Mg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_P + _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_P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_Na + _H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_H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+ _NaOH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_CH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+ _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_C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+ _H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actice Balancing Examp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bbd71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AgN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+ _Cu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_Cu(N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3800" spc="-1" strike="noStrike">
                <a:solidFill>
                  <a:srgbClr val="dbbd71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Ag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bbd71"/>
                </a:solidFill>
                <a:latin typeface="Tahoma"/>
              </a:rPr>
              <a:t>3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Mg + _N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_Mg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bbd71"/>
                </a:solidFill>
                <a:latin typeface="Tahoma"/>
              </a:rPr>
              <a:t>4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P + </a:t>
            </a:r>
            <a:r>
              <a:rPr b="0" lang="en-US" sz="3800" spc="-1" strike="noStrike">
                <a:solidFill>
                  <a:srgbClr val="dbbd71"/>
                </a:solidFill>
                <a:latin typeface="Tahoma"/>
              </a:rPr>
              <a:t>5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_P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bbd71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Na + </a:t>
            </a:r>
            <a:r>
              <a:rPr b="0" lang="en-US" sz="3800" spc="-1" strike="noStrike">
                <a:solidFill>
                  <a:srgbClr val="dbbd71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_H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3800" spc="-1" strike="noStrike">
                <a:solidFill>
                  <a:srgbClr val="dbbd71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NaOH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_CH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3800" spc="-1" strike="noStrike">
                <a:solidFill>
                  <a:srgbClr val="dbbd71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 _C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3800" spc="-1" strike="noStrike">
                <a:solidFill>
                  <a:srgbClr val="dbbd71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ypes of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There are probably millions of reactions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We can’t remember them all, but luckily they will fall into several categories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We will learn: a) the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ahoma"/>
              </a:rPr>
              <a:t>5 major types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We will be able to: b) </a:t>
            </a:r>
            <a:r>
              <a:rPr b="0" lang="en-US" sz="3400" spc="-1" strike="noStrike" u="sng">
                <a:solidFill>
                  <a:srgbClr val="ffff00"/>
                </a:solidFill>
                <a:uFillTx/>
                <a:latin typeface="Tahoma"/>
              </a:rPr>
              <a:t>predict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the products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For some, we will be able to: c) predict whether or not they will </a:t>
            </a:r>
            <a:r>
              <a:rPr b="0" i="1" lang="en-US" sz="3400" spc="-1" strike="noStrike">
                <a:solidFill>
                  <a:srgbClr val="dbbd71"/>
                </a:solidFill>
                <a:latin typeface="Tahoma"/>
              </a:rPr>
              <a:t>happen at all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How?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We recognize them by their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Tahoma"/>
              </a:rPr>
              <a:t>reacta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6600" y="325440"/>
            <a:ext cx="76276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Skeleton Equ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All chemical equations are a </a:t>
            </a:r>
            <a:r>
              <a:rPr b="1" i="1" lang="en-US" sz="4200" spc="-1" strike="noStrike">
                <a:solidFill>
                  <a:srgbClr val="ffff00"/>
                </a:solidFill>
                <a:latin typeface="Tahoma"/>
              </a:rPr>
              <a:t>description</a:t>
            </a: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 of the reaction.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A skeleton equation uses formulas and symbols to describe  a reaction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9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but doesn’t indicate how many; this means they are NOT balanced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Synthesis Reactio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2708280"/>
            <a:ext cx="1440000" cy="1440000"/>
          </a:xfrm>
          <a:prstGeom prst="ellipse">
            <a:avLst/>
          </a:prstGeom>
          <a:gradFill rotWithShape="0">
            <a:gsLst>
              <a:gs pos="0">
                <a:srgbClr val="ffc1c1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43280" y="2708280"/>
            <a:ext cx="1439640" cy="1440000"/>
          </a:xfrm>
          <a:prstGeom prst="ellipse">
            <a:avLst/>
          </a:prstGeom>
          <a:gradFill rotWithShape="0">
            <a:gsLst>
              <a:gs pos="0">
                <a:srgbClr val="c5c5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2360" y="285264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3429000"/>
            <a:ext cx="1295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084720" y="2709720"/>
            <a:ext cx="2592360" cy="1440000"/>
            <a:chOff x="6084720" y="2709720"/>
            <a:chExt cx="2592360" cy="1440000"/>
          </a:xfrm>
        </p:grpSpPr>
        <p:sp>
          <p:nvSpPr>
            <p:cNvPr id="207" name=""/>
            <p:cNvSpPr/>
            <p:nvPr/>
          </p:nvSpPr>
          <p:spPr>
            <a:xfrm>
              <a:off x="6084720" y="2709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37080" y="2709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c5c5ff"/>
                </a:gs>
                <a:gs pos="100000">
                  <a:srgbClr val="66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84720" y="2709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>
                    <a:alpha val="4705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00040" y="5157720"/>
            <a:ext cx="836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The general equation is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A + B </a:t>
            </a: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A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040" y="814320"/>
            <a:ext cx="861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 Rounded MT Bold"/>
              </a:rPr>
              <a:t>also called Combination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 Rounded MT Bold"/>
              </a:rPr>
              <a:t>2 substances combine to make one compou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ypes of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five types of chemical reactions we will talk abou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thesis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_____________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gle displacement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________________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bustion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need to be able to identify the type of reaction and predict the product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Synthesis Reactio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11120" y="1287360"/>
            <a:ext cx="6500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  <a:ea typeface="Arial"/>
              </a:rPr>
              <a:t>HCl</a:t>
            </a:r>
            <a:r>
              <a:rPr b="1" lang="en-US" sz="4000" spc="-1" strike="noStrike" baseline="-25000">
                <a:solidFill>
                  <a:srgbClr val="dbbd71"/>
                </a:solidFill>
                <a:latin typeface="Arial"/>
                <a:ea typeface="Arial"/>
              </a:rPr>
              <a:t>(g)</a:t>
            </a:r>
            <a:r>
              <a:rPr b="1" lang="en-US" sz="4000" spc="-1" strike="noStrike">
                <a:solidFill>
                  <a:srgbClr val="dbbd71"/>
                </a:solidFill>
                <a:latin typeface="Arial"/>
                <a:ea typeface="Arial"/>
              </a:rPr>
              <a:t> + NH</a:t>
            </a:r>
            <a:r>
              <a:rPr b="1" lang="en-US" sz="4000" spc="-1" strike="noStrike" baseline="-25000">
                <a:solidFill>
                  <a:srgbClr val="dbbd71"/>
                </a:solidFill>
                <a:latin typeface="Arial"/>
                <a:ea typeface="Arial"/>
              </a:rPr>
              <a:t>3(g)</a:t>
            </a:r>
            <a:r>
              <a:rPr b="1" lang="en-US" sz="4000" spc="-1" strike="noStrike">
                <a:solidFill>
                  <a:srgbClr val="dbbd71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dbbd71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dbbd71"/>
                </a:solidFill>
                <a:latin typeface="Arial"/>
                <a:ea typeface="Arial"/>
              </a:rPr>
              <a:t> NH</a:t>
            </a:r>
            <a:r>
              <a:rPr b="1" lang="en-US" sz="4000" spc="-1" strike="noStrike" baseline="-25000">
                <a:solidFill>
                  <a:srgbClr val="dbbd71"/>
                </a:solidFill>
                <a:latin typeface="Arial"/>
                <a:ea typeface="Arial"/>
              </a:rPr>
              <a:t>4</a:t>
            </a:r>
            <a:r>
              <a:rPr b="1" lang="en-US" sz="4000" spc="-1" strike="noStrike">
                <a:solidFill>
                  <a:srgbClr val="dbbd71"/>
                </a:solidFill>
                <a:latin typeface="Arial"/>
                <a:ea typeface="Arial"/>
              </a:rPr>
              <a:t>Cl</a:t>
            </a:r>
            <a:r>
              <a:rPr b="1" lang="en-US" sz="4000" spc="-1" strike="noStrike" baseline="-25000">
                <a:solidFill>
                  <a:srgbClr val="dbbd71"/>
                </a:solidFill>
                <a:latin typeface="Arial"/>
                <a:ea typeface="Arial"/>
              </a:rPr>
              <a:t>(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41120" y="2637000"/>
            <a:ext cx="2971800" cy="3960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112920" y="2637000"/>
            <a:ext cx="2971800" cy="3960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066000" y="2637000"/>
            <a:ext cx="297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ynthesis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is another example of a synthesis re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dict the products.  Write and balance the following synthesis reaction equ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dium metal reacts with chlorine g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id Magnesium reacts with fluorine 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uminum metal reacts with fluorine 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 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380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48006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7621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#1 Synthesis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lso called Combination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 substances combine to make one compou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the general equation is :  A  +  B  →  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Ca + 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CaO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cc66"/>
                </a:solidFill>
                <a:latin typeface="Tahoma"/>
              </a:rPr>
              <a:t>element + el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S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+ 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S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3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	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cc66"/>
                </a:solidFill>
                <a:latin typeface="Tahoma"/>
              </a:rPr>
              <a:t>compound + el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C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+ H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O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H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C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cc66"/>
                </a:solidFill>
                <a:latin typeface="Tahoma"/>
              </a:rPr>
              <a:t>compound + compou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e can predict the products, especially if the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reactants are two element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Mg + N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6278400"/>
            <a:ext cx="169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mplete and balanc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37600" y="107928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Ca + Cl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Fe + 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→  (assume iron (II) oxide is the produc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l + 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201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member that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step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s to write the </a:t>
            </a: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correct formulas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you can still change the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subscript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at this point, but not later while balanc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201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n balanc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by changing the </a:t>
            </a:r>
            <a:r>
              <a:rPr b="1" lang="en-US" sz="3200" spc="-1" strike="noStrike" u="sng">
                <a:solidFill>
                  <a:srgbClr val="dbbd71"/>
                </a:solidFill>
                <a:uFillTx/>
                <a:latin typeface="Tahoma"/>
              </a:rPr>
              <a:t>coefficient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on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23880" y="3573360"/>
            <a:ext cx="8059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 Rounded MT Bold"/>
                <a:ea typeface="MS PGothic"/>
              </a:rPr>
              <a:t>The general equation is :    AB  →  A +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A reaction where a more complex molecule breaks down to form two or more simpler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#2 Decomposition Reac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76720" y="1482840"/>
            <a:ext cx="1440000" cy="1439640"/>
          </a:xfrm>
          <a:prstGeom prst="ellipse">
            <a:avLst/>
          </a:prstGeom>
          <a:gradFill rotWithShape="0">
            <a:gsLst>
              <a:gs pos="0">
                <a:srgbClr val="ffc1c1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80360" y="1482840"/>
            <a:ext cx="1439640" cy="1439640"/>
          </a:xfrm>
          <a:prstGeom prst="ellipse">
            <a:avLst/>
          </a:prstGeom>
          <a:gradFill rotWithShape="0">
            <a:gsLst>
              <a:gs pos="0">
                <a:srgbClr val="c5c5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89440" y="16272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19640" y="2203560"/>
            <a:ext cx="1295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68360" y="1484280"/>
            <a:ext cx="2592360" cy="1440000"/>
            <a:chOff x="468360" y="1484280"/>
            <a:chExt cx="2592360" cy="1440000"/>
          </a:xfrm>
        </p:grpSpPr>
        <p:sp>
          <p:nvSpPr>
            <p:cNvPr id="237" name=""/>
            <p:cNvSpPr/>
            <p:nvPr/>
          </p:nvSpPr>
          <p:spPr>
            <a:xfrm>
              <a:off x="468360" y="148428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20720" y="148428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c5c5ff"/>
                </a:gs>
                <a:gs pos="100000">
                  <a:srgbClr val="66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8360" y="148428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>
                    <a:alpha val="4705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mposition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composition rea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ccur when a compound breaks up into the elements or in a few to simpler compou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 Reactant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roduct + Produc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general: AB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+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2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2 Hg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2Hg 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057400" y="5181480"/>
            <a:ext cx="533412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mposition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view of a decomposition rea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12682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Arial"/>
                <a:ea typeface="Arial"/>
              </a:rPr>
              <a:t>2NH</a:t>
            </a:r>
            <a:r>
              <a:rPr b="1" lang="en-US" sz="3200" spc="-1" strike="noStrike" baseline="-25000">
                <a:solidFill>
                  <a:srgbClr val="dbbd71"/>
                </a:solidFill>
                <a:latin typeface="Arial"/>
                <a:ea typeface="Arial"/>
              </a:rPr>
              <a:t>4</a:t>
            </a:r>
            <a:r>
              <a:rPr b="1" lang="en-US" sz="3200" spc="-1" strike="noStrike">
                <a:solidFill>
                  <a:srgbClr val="dbbd71"/>
                </a:solidFill>
                <a:latin typeface="Arial"/>
                <a:ea typeface="Arial"/>
              </a:rPr>
              <a:t>NO</a:t>
            </a:r>
            <a:r>
              <a:rPr b="1" lang="en-US" sz="3200" spc="-1" strike="noStrike" baseline="-25000">
                <a:solidFill>
                  <a:srgbClr val="dbbd71"/>
                </a:solidFill>
                <a:latin typeface="Arial"/>
                <a:ea typeface="Arial"/>
              </a:rPr>
              <a:t>3(s)</a:t>
            </a:r>
            <a:r>
              <a:rPr b="1" lang="en-US" sz="3200" spc="-1" strike="noStrike">
                <a:solidFill>
                  <a:srgbClr val="dbbd7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bbd71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dbbd71"/>
                </a:solidFill>
                <a:latin typeface="Arial"/>
                <a:ea typeface="Arial"/>
              </a:rPr>
              <a:t> 4H</a:t>
            </a:r>
            <a:r>
              <a:rPr b="1" lang="en-US" sz="3200" spc="-1" strike="noStrike" baseline="-25000">
                <a:solidFill>
                  <a:srgbClr val="dbbd71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dbbd71"/>
                </a:solidFill>
                <a:latin typeface="Arial"/>
                <a:ea typeface="Arial"/>
              </a:rPr>
              <a:t>O</a:t>
            </a:r>
            <a:r>
              <a:rPr b="1" lang="en-US" sz="3200" spc="-1" strike="noStrike" baseline="-25000">
                <a:solidFill>
                  <a:srgbClr val="dbbd71"/>
                </a:solidFill>
                <a:latin typeface="Arial"/>
                <a:ea typeface="Arial"/>
              </a:rPr>
              <a:t>(g)</a:t>
            </a:r>
            <a:r>
              <a:rPr b="1" lang="en-US" sz="3200" spc="-1" strike="noStrike">
                <a:solidFill>
                  <a:srgbClr val="dbbd71"/>
                </a:solidFill>
                <a:latin typeface="Arial"/>
                <a:ea typeface="Arial"/>
              </a:rPr>
              <a:t> + 2N</a:t>
            </a:r>
            <a:r>
              <a:rPr b="1" lang="en-US" sz="3200" spc="-1" strike="noStrike" baseline="-25000">
                <a:solidFill>
                  <a:srgbClr val="dbbd71"/>
                </a:solidFill>
                <a:latin typeface="Arial"/>
                <a:ea typeface="Arial"/>
              </a:rPr>
              <a:t>2(g)</a:t>
            </a:r>
            <a:r>
              <a:rPr b="1" lang="en-US" sz="3200" spc="-1" strike="noStrike">
                <a:solidFill>
                  <a:srgbClr val="dbbd71"/>
                </a:solidFill>
                <a:latin typeface="Arial"/>
                <a:ea typeface="Arial"/>
              </a:rPr>
              <a:t> + O</a:t>
            </a:r>
            <a:r>
              <a:rPr b="1" lang="en-US" sz="3200" spc="-1" strike="noStrike" baseline="-25000">
                <a:solidFill>
                  <a:srgbClr val="dbbd71"/>
                </a:solidFill>
                <a:latin typeface="Arial"/>
                <a:ea typeface="Arial"/>
              </a:rPr>
              <a:t>2(g)</a:t>
            </a:r>
            <a:r>
              <a:rPr b="1" lang="en-US" sz="3200" spc="-1" strike="noStrike">
                <a:solidFill>
                  <a:srgbClr val="dbbd71"/>
                </a:solidFill>
                <a:latin typeface="Arial"/>
                <a:ea typeface="Arial"/>
              </a:rPr>
              <a:t> +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92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mposition Re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067280" cy="2798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5367240"/>
            <a:ext cx="40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mothy McVeigh bombing,  19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3143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427640" y="5661000"/>
            <a:ext cx="47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gular building demolition with ammonium nitrate explos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Decomposition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e can predict the products if it is a binary compound (which means it is made up of only two elemen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 breaks apart into the elem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765440" y="3241800"/>
                <a:ext cx="2855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electricity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868400" y="3817800"/>
                <a:ext cx="18288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256" name="" descr="IMG.jpg"/>
          <p:cNvPicPr/>
          <p:nvPr/>
        </p:nvPicPr>
        <p:blipFill>
          <a:blip r:embed="rId1"/>
          <a:stretch/>
        </p:blipFill>
        <p:spPr>
          <a:xfrm>
            <a:off x="2968560" y="3929040"/>
            <a:ext cx="4388040" cy="29289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9720" y="599292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rcury (II) ox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innab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7440" y="4803840"/>
            <a:ext cx="1905120" cy="12571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6400800" y="4952880"/>
            <a:ext cx="2050920" cy="15462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368120" y="42037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rc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5943600" y="4330800"/>
            <a:ext cx="1155600" cy="39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460600" y="5473440"/>
            <a:ext cx="1654200" cy="469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eps to Writing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steps for doing rea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the type of re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ct the product(s) using the type of reaction as a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lance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forget about the diatomic elements! (BrINClHOF) For example, Oxygen is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s an</a:t>
            </a:r>
            <a:r>
              <a:rPr b="0" lang="en-US" sz="2800" spc="-1" strike="noStrike" u="sng" baseline="-25000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ement.</a:t>
            </a:r>
            <a:r>
              <a:rPr b="0" lang="en-US" sz="2800" spc="-1" strike="noStrike" u="sng" baseline="-25000">
                <a:solidFill>
                  <a:srgbClr val="ffffff"/>
                </a:solidFill>
                <a:uFillTx/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a compound, it can’t be a diatomic element because it’s not an element anymore, it’s a compound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mposition Excep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ates and chlorates are special case decomposition reactions that do not go to the el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bonates (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decompose to carbon dioxide and a metal ox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Ca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+ Ca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lorates (Cl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decompose to oxygen gas and a metal chlor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2 Al(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2 Al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+ 9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dict the products.  Then, write and balance the following decomposition reaction equa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id Lead (IV) oxide decompos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Pb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s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uminum nitride decompos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4267080" y="3733920"/>
            <a:ext cx="2362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Decomposition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ne reacta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reaks apart into two or more elements or compou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the general equation is :    AB  →  A +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O                     H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 + O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CaCO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              CaO + CO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CuSO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•5H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O 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 CuSO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 + 5H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cc66"/>
                </a:solidFill>
                <a:latin typeface="Tahoma"/>
                <a:ea typeface="MS PGothic"/>
              </a:rPr>
              <a:t>2NaHCO</a:t>
            </a:r>
            <a:r>
              <a:rPr b="0" lang="en-CA" sz="2800" spc="-1" strike="noStrike" baseline="-25000">
                <a:solidFill>
                  <a:srgbClr val="ffcc66"/>
                </a:solidFill>
                <a:latin typeface="Tahoma"/>
                <a:ea typeface="MS PGothic"/>
              </a:rPr>
              <a:t>3(s)</a:t>
            </a:r>
            <a:r>
              <a:rPr b="0" lang="en-CA" sz="2800" spc="-1" strike="noStrike">
                <a:solidFill>
                  <a:srgbClr val="ffcc66"/>
                </a:solidFill>
                <a:latin typeface="Tahoma"/>
                <a:ea typeface="MS PGothic"/>
              </a:rPr>
              <a:t>              Na</a:t>
            </a:r>
            <a:r>
              <a:rPr b="0" lang="en-CA" sz="2800" spc="-1" strike="noStrike" baseline="-25000">
                <a:solidFill>
                  <a:srgbClr val="ffcc66"/>
                </a:solidFill>
                <a:latin typeface="Tahoma"/>
                <a:ea typeface="MS PGothic"/>
              </a:rPr>
              <a:t>2</a:t>
            </a:r>
            <a:r>
              <a:rPr b="0" lang="en-CA" sz="2800" spc="-1" strike="noStrike">
                <a:solidFill>
                  <a:srgbClr val="ffcc66"/>
                </a:solidFill>
                <a:latin typeface="Tahoma"/>
                <a:ea typeface="MS PGothic"/>
              </a:rPr>
              <a:t>CO</a:t>
            </a:r>
            <a:r>
              <a:rPr b="0" lang="en-CA" sz="2800" spc="-1" strike="noStrike" baseline="-25000">
                <a:solidFill>
                  <a:srgbClr val="ffcc66"/>
                </a:solidFill>
                <a:latin typeface="Tahoma"/>
                <a:ea typeface="MS PGothic"/>
              </a:rPr>
              <a:t>3(s)</a:t>
            </a:r>
            <a:r>
              <a:rPr b="0" lang="en-CA" sz="2800" spc="-1" strike="noStrike">
                <a:solidFill>
                  <a:srgbClr val="ffcc66"/>
                </a:solidFill>
                <a:latin typeface="Tahoma"/>
                <a:ea typeface="MS PGothic"/>
              </a:rPr>
              <a:t>  +  H</a:t>
            </a:r>
            <a:r>
              <a:rPr b="0" lang="en-CA" sz="2800" spc="-1" strike="noStrike" baseline="-25000">
                <a:solidFill>
                  <a:srgbClr val="ffcc66"/>
                </a:solidFill>
                <a:latin typeface="Tahoma"/>
                <a:ea typeface="MS PGothic"/>
              </a:rPr>
              <a:t>2</a:t>
            </a:r>
            <a:r>
              <a:rPr b="0" lang="en-CA" sz="2800" spc="-1" strike="noStrike">
                <a:solidFill>
                  <a:srgbClr val="ffcc66"/>
                </a:solidFill>
                <a:latin typeface="Tahoma"/>
                <a:ea typeface="MS PGothic"/>
              </a:rPr>
              <a:t>O</a:t>
            </a:r>
            <a:r>
              <a:rPr b="0" lang="en-CA" sz="2800" spc="-1" strike="noStrike" baseline="-25000">
                <a:solidFill>
                  <a:srgbClr val="ffcc66"/>
                </a:solidFill>
                <a:latin typeface="Tahoma"/>
                <a:ea typeface="MS PGothic"/>
              </a:rPr>
              <a:t>(l)</a:t>
            </a:r>
            <a:r>
              <a:rPr b="0" lang="en-CA" sz="2800" spc="-1" strike="noStrike">
                <a:solidFill>
                  <a:srgbClr val="ffcc66"/>
                </a:solidFill>
                <a:latin typeface="Tahoma"/>
                <a:ea typeface="MS PGothic"/>
              </a:rPr>
              <a:t>  +  CO</a:t>
            </a:r>
            <a:r>
              <a:rPr b="0" lang="en-CA" sz="2800" spc="-1" strike="noStrike" baseline="-25000">
                <a:solidFill>
                  <a:srgbClr val="ffcc66"/>
                </a:solidFill>
                <a:latin typeface="Tahoma"/>
                <a:ea typeface="MS PGothic"/>
              </a:rPr>
              <a:t>2(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e that </a:t>
            </a:r>
            <a:r>
              <a:rPr b="0" i="1" lang="en-US" sz="2800" spc="-1" strike="noStrike" u="sng">
                <a:solidFill>
                  <a:srgbClr val="dbbd71"/>
                </a:solidFill>
                <a:uFillTx/>
                <a:latin typeface="Tahoma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heat, sunlight, electricity, etc.) is usually requi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455840" y="2633760"/>
                <a:ext cx="23716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electricity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922400" y="3198960"/>
                <a:ext cx="1654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921040" y="3781440"/>
                <a:ext cx="1654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682720" y="4405320"/>
                <a:ext cx="1654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2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64240" y="3513240"/>
            <a:ext cx="1152720" cy="7999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>
            <a:hlinkClick r:id="rId3"/>
          </p:cNvPr>
          <p:cNvPicPr/>
          <p:nvPr/>
        </p:nvPicPr>
        <p:blipFill>
          <a:blip r:embed="rId4"/>
          <a:srcRect l="0" t="11204" r="0" b="11204"/>
          <a:stretch/>
        </p:blipFill>
        <p:spPr>
          <a:xfrm>
            <a:off x="7824960" y="3508200"/>
            <a:ext cx="1076040" cy="83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29920" y="228240"/>
            <a:ext cx="861372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Single Displacement Reaction</a:t>
            </a:r>
            <a:br>
              <a:rPr sz="4800"/>
            </a:b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(Replacement)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90360" y="1724040"/>
            <a:ext cx="8945640" cy="1200240"/>
            <a:chOff x="90360" y="1724040"/>
            <a:chExt cx="8945640" cy="1200240"/>
          </a:xfrm>
        </p:grpSpPr>
        <p:sp>
          <p:nvSpPr>
            <p:cNvPr id="278" name=""/>
            <p:cNvSpPr/>
            <p:nvPr/>
          </p:nvSpPr>
          <p:spPr>
            <a:xfrm>
              <a:off x="90360" y="1756080"/>
              <a:ext cx="1168560" cy="11682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60360" y="1756080"/>
              <a:ext cx="669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68720" y="2332080"/>
              <a:ext cx="1008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1908000" y="1756080"/>
              <a:ext cx="2089080" cy="1168200"/>
              <a:chOff x="1908000" y="1756080"/>
              <a:chExt cx="2089080" cy="1168200"/>
            </a:xfrm>
          </p:grpSpPr>
          <p:sp>
            <p:nvSpPr>
              <p:cNvPr id="282" name=""/>
              <p:cNvSpPr/>
              <p:nvPr/>
            </p:nvSpPr>
            <p:spPr>
              <a:xfrm>
                <a:off x="1908000" y="1756080"/>
                <a:ext cx="1168560" cy="116820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828880" y="175608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8000" y="1756080"/>
                <a:ext cx="1168560" cy="116820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>
                      <a:alpha val="5137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7237440" y="1756080"/>
              <a:ext cx="669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867800" y="1739880"/>
              <a:ext cx="1168200" cy="1168560"/>
            </a:xfrm>
            <a:prstGeom prst="ellipse">
              <a:avLst/>
            </a:prstGeom>
            <a:gradFill rotWithShape="0">
              <a:gsLst>
                <a:gs pos="0">
                  <a:srgbClr val="c5c5ff"/>
                </a:gs>
                <a:gs pos="100000">
                  <a:srgbClr val="66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5148360" y="1724040"/>
              <a:ext cx="2136600" cy="1184040"/>
              <a:chOff x="5148360" y="1724040"/>
              <a:chExt cx="2136600" cy="1184040"/>
            </a:xfrm>
          </p:grpSpPr>
          <p:sp>
            <p:nvSpPr>
              <p:cNvPr id="288" name=""/>
              <p:cNvSpPr/>
              <p:nvPr/>
            </p:nvSpPr>
            <p:spPr>
              <a:xfrm>
                <a:off x="5148360" y="173988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116760" y="173988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164200" y="172404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>
                      <a:alpha val="55294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"/>
          <p:cNvSpPr/>
          <p:nvPr/>
        </p:nvSpPr>
        <p:spPr>
          <a:xfrm>
            <a:off x="250920" y="4008600"/>
            <a:ext cx="87170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A reaction where an element displaces another element in a compound, producing a new compound and an 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A metal will replace a cation (metal or 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A non-metal will replace an anion (non-me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08040" y="300024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A + BC </a:t>
            </a: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AC + 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ingle Replacement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vie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ingle Replacement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ngle Replacement Reaction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cur when one element replaces another in a compou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etal can replace a metal (+)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O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nonmetal can replace a nonmetal (-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lement + compound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element + compound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+ BC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C + B 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(if A is a metal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+ BC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 + C 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(if A is a nonmetal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remember the cation always goes first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When H</a:t>
            </a:r>
            <a:r>
              <a:rPr b="1" lang="en-US" sz="24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O splits into ions, it splits i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H</a:t>
            </a:r>
            <a:r>
              <a:rPr b="1" lang="en-US" sz="2400" spc="-1" strike="noStrike" baseline="30000">
                <a:solidFill>
                  <a:srgbClr val="ffcc66"/>
                </a:solidFill>
                <a:latin typeface="Tahoma"/>
              </a:rPr>
              <a:t>+</a:t>
            </a: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 and OH</a:t>
            </a:r>
            <a:r>
              <a:rPr b="1" lang="en-US" sz="2400" spc="-1" strike="noStrike" baseline="30000">
                <a:solidFill>
                  <a:srgbClr val="ffcc66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   (not H+ and O</a:t>
            </a:r>
            <a:r>
              <a:rPr b="1" lang="en-US" sz="2400" spc="-1" strike="noStrike" baseline="30000">
                <a:solidFill>
                  <a:srgbClr val="ffcc66"/>
                </a:solidFill>
                <a:latin typeface="Tahoma"/>
              </a:rPr>
              <a:t>-2</a:t>
            </a: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 !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095880" y="4446720"/>
            <a:ext cx="304812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rcRect l="0" t="16733" r="0" b="0"/>
          <a:stretch/>
        </p:blipFill>
        <p:spPr>
          <a:xfrm>
            <a:off x="1184400" y="934920"/>
            <a:ext cx="6499080" cy="26798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501480" y="3905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dbbd71"/>
                </a:solidFill>
                <a:latin typeface="Tahoma"/>
                <a:ea typeface="MS PGothic"/>
              </a:rPr>
              <a:t>Zn</a:t>
            </a:r>
            <a:r>
              <a:rPr b="1" lang="en-CA" sz="3200" spc="-1" strike="noStrike" baseline="-25000">
                <a:solidFill>
                  <a:srgbClr val="dbbd71"/>
                </a:solidFill>
                <a:latin typeface="Tahoma"/>
                <a:ea typeface="MS PGothic"/>
              </a:rPr>
              <a:t>(s)</a:t>
            </a:r>
            <a:r>
              <a:rPr b="1" lang="en-CA" sz="3200" spc="-1" strike="noStrike">
                <a:solidFill>
                  <a:srgbClr val="dbbd71"/>
                </a:solidFill>
                <a:latin typeface="Tahoma"/>
                <a:ea typeface="MS PGothic"/>
              </a:rPr>
              <a:t>  +  2 HCl </a:t>
            </a:r>
            <a:r>
              <a:rPr b="1" lang="en-CA" sz="3200" spc="-1" strike="noStrike" baseline="-25000">
                <a:solidFill>
                  <a:srgbClr val="dbbd71"/>
                </a:solidFill>
                <a:latin typeface="Tahoma"/>
                <a:ea typeface="MS PGothic"/>
              </a:rPr>
              <a:t>(aq)</a:t>
            </a:r>
            <a:r>
              <a:rPr b="1" lang="en-CA" sz="3200" spc="-1" strike="noStrike">
                <a:solidFill>
                  <a:srgbClr val="dbbd71"/>
                </a:solidFill>
                <a:latin typeface="Tahoma"/>
                <a:ea typeface="MS PGothic"/>
              </a:rPr>
              <a:t>  →  ZnCl</a:t>
            </a:r>
            <a:r>
              <a:rPr b="1" lang="en-CA" sz="3200" spc="-1" strike="noStrike" baseline="-25000">
                <a:solidFill>
                  <a:srgbClr val="dbbd71"/>
                </a:solidFill>
                <a:latin typeface="Tahoma"/>
                <a:ea typeface="MS PGothic"/>
              </a:rPr>
              <a:t>2</a:t>
            </a:r>
            <a:r>
              <a:rPr b="1" lang="en-CA" sz="3200" spc="-1" strike="noStrike">
                <a:solidFill>
                  <a:srgbClr val="dbbd71"/>
                </a:solidFill>
                <a:latin typeface="Tahoma"/>
                <a:ea typeface="MS PGothic"/>
              </a:rPr>
              <a:t> </a:t>
            </a:r>
            <a:r>
              <a:rPr b="1" lang="en-CA" sz="3200" spc="-1" strike="noStrike" baseline="-25000">
                <a:solidFill>
                  <a:srgbClr val="dbbd71"/>
                </a:solidFill>
                <a:latin typeface="Tahoma"/>
                <a:ea typeface="MS PGothic"/>
              </a:rPr>
              <a:t>(aq)</a:t>
            </a:r>
            <a:r>
              <a:rPr b="1" lang="en-CA" sz="3200" spc="-1" strike="noStrike">
                <a:solidFill>
                  <a:srgbClr val="dbbd71"/>
                </a:solidFill>
                <a:latin typeface="Tahoma"/>
                <a:ea typeface="MS PGothic"/>
              </a:rPr>
              <a:t> + H</a:t>
            </a:r>
            <a:r>
              <a:rPr b="1" lang="en-CA" sz="3200" spc="-1" strike="noStrike" baseline="-25000">
                <a:solidFill>
                  <a:srgbClr val="dbbd71"/>
                </a:solidFill>
                <a:latin typeface="Tahoma"/>
                <a:ea typeface="MS PGothic"/>
              </a:rPr>
              <a:t>2</a:t>
            </a:r>
            <a:r>
              <a:rPr b="1" lang="en-CA" sz="3200" spc="-1" strike="noStrike">
                <a:solidFill>
                  <a:srgbClr val="dbbd71"/>
                </a:solidFill>
                <a:latin typeface="Tahoma"/>
                <a:ea typeface="MS PGothic"/>
              </a:rPr>
              <a:t> </a:t>
            </a:r>
            <a:r>
              <a:rPr b="1" lang="en-CA" sz="3200" spc="-1" strike="noStrike" baseline="-25000">
                <a:solidFill>
                  <a:srgbClr val="dbbd71"/>
                </a:solidFill>
                <a:latin typeface="Tahoma"/>
                <a:ea typeface="MS PGothic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nc metal and hydrochloric acid react to form zinc chloride and hydrogen gas in this single-displacement rea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ingle Replacement Re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04560" y="9907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element replaces an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the reaction follows the form of:   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compound + element  → compound + 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ctants must b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n element and a comp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ts will be a different element and a different comp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a  + KCl → K + NaCl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cations switche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+ LiCl → LiF + 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nions switched)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09480" y="4235040"/>
            <a:ext cx="1855800" cy="840240"/>
            <a:chOff x="609480" y="4235040"/>
            <a:chExt cx="1855800" cy="840240"/>
          </a:xfrm>
        </p:grpSpPr>
        <p:sp>
          <p:nvSpPr>
            <p:cNvPr id="304" name=""/>
            <p:cNvSpPr/>
            <p:nvPr/>
          </p:nvSpPr>
          <p:spPr>
            <a:xfrm>
              <a:off x="609480" y="4492800"/>
              <a:ext cx="822240" cy="58248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49400" y="4465800"/>
              <a:ext cx="515880" cy="59688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06" name=""/>
            <p:cNvCxnSpPr/>
            <p:nvPr/>
          </p:nvCxnSpPr>
          <p:spPr>
            <a:xfrm flipH="1" flipV="1" rot="5400000">
              <a:off x="1642680" y="4195440"/>
              <a:ext cx="25920" cy="714960"/>
            </a:xfrm>
            <a:prstGeom prst="curvedConnector5">
              <a:avLst>
                <a:gd name="adj1" fmla="val 1292957"/>
                <a:gd name="adj2" fmla="val 49974"/>
                <a:gd name="adj3" fmla="val 1292957"/>
              </a:avLst>
            </a:prstGeom>
            <a:ln w="25560">
              <a:solidFill>
                <a:srgbClr val="ffff00"/>
              </a:solidFill>
              <a:miter/>
              <a:headEnd len="med" type="triangle" w="lg"/>
              <a:tailEnd len="med" type="triangle" w="lg"/>
            </a:ln>
          </p:spPr>
        </p:cxnSp>
      </p:grpSp>
      <p:grpSp>
        <p:nvGrpSpPr>
          <p:cNvPr id="307" name=""/>
          <p:cNvGrpSpPr/>
          <p:nvPr/>
        </p:nvGrpSpPr>
        <p:grpSpPr>
          <a:xfrm>
            <a:off x="531720" y="4939560"/>
            <a:ext cx="2185920" cy="798840"/>
            <a:chOff x="531720" y="4939560"/>
            <a:chExt cx="2185920" cy="798840"/>
          </a:xfrm>
        </p:grpSpPr>
        <p:sp>
          <p:nvSpPr>
            <p:cNvPr id="308" name=""/>
            <p:cNvSpPr/>
            <p:nvPr/>
          </p:nvSpPr>
          <p:spPr>
            <a:xfrm>
              <a:off x="531720" y="5194080"/>
              <a:ext cx="530280" cy="51732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35160" y="5181480"/>
              <a:ext cx="582480" cy="55692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10" name=""/>
            <p:cNvCxnSpPr>
              <a:stCxn id="308" idx="7"/>
              <a:endCxn id="309" idx="1"/>
            </p:cNvCxnSpPr>
            <p:nvPr/>
          </p:nvCxnSpPr>
          <p:spPr>
            <a:xfrm flipH="1" flipV="1" rot="5400000">
              <a:off x="1597680" y="4635000"/>
              <a:ext cx="8640" cy="1236960"/>
            </a:xfrm>
            <a:prstGeom prst="curvedConnector5">
              <a:avLst>
                <a:gd name="adj1" fmla="val 3839130"/>
                <a:gd name="adj2" fmla="val 49985"/>
                <a:gd name="adj3" fmla="val 3839130"/>
              </a:avLst>
            </a:prstGeom>
            <a:ln w="25560">
              <a:solidFill>
                <a:srgbClr val="ffff00"/>
              </a:solidFill>
              <a:miter/>
              <a:headEnd len="med" type="triangle" w="lg"/>
              <a:tailEnd len="med" type="triangle" w="lg"/>
            </a:ln>
          </p:spPr>
        </p:cxnSp>
      </p:grpSp>
      <p:sp>
        <p:nvSpPr>
          <p:cNvPr id="311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ingle Replacement Re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ingle Replacement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dium chloride solid reacts with fluorine g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Na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 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e that fluorine replaces chlorine in the compou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uminum metal reacts with aqueous copper (II) nitra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  Cu(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aq)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19051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29200" y="1905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Metals will replace other metals (and they can also replace hydrogen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Zn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+  2 HCl 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aq)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→  ZnCl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aq)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+ H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Cu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+ 2AgNO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3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→ 2Ag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+ Cu(NO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3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)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hink of water as:  HO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etals replace the first H, and then combines with the hydroxide (OH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2Na 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+ 2H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O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l)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 →  2 NaOH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aq)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+  H</a:t>
            </a:r>
            <a:r>
              <a:rPr b="1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0" y="0"/>
          <a:ext cx="4286160" cy="1643040"/>
        </p:xfrm>
        <a:graphic>
          <a:graphicData uri="http://schemas.openxmlformats.org/drawingml/2006/table">
            <a:tbl>
              <a:tblPr/>
              <a:tblGrid>
                <a:gridCol w="1071720"/>
                <a:gridCol w="1071360"/>
                <a:gridCol w="1071720"/>
                <a:gridCol w="107136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728720" y="31766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2819520" y="32004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3925800" y="3124080"/>
            <a:ext cx="1143000" cy="8575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ingle Replacement Re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2286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ow to Describe a Re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990720"/>
            <a:ext cx="8915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reaction can be described several way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#1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 a </a:t>
            </a:r>
            <a:r>
              <a:rPr b="0" lang="en-US" sz="2800" spc="-1" strike="noStrike" u="sng">
                <a:solidFill>
                  <a:srgbClr val="dbbd71"/>
                </a:solidFill>
                <a:uFillTx/>
                <a:latin typeface="Tahoma"/>
              </a:rPr>
              <a:t>sentenc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every item is a word</a:t>
            </a:r>
            <a:r>
              <a:rPr b="1" lang="en-US" sz="2800" spc="-1" strike="noStrike">
                <a:solidFill>
                  <a:srgbClr val="dbbd7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Copper reacts with chlorine to form copper (II) chlor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#2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 a </a:t>
            </a:r>
            <a:r>
              <a:rPr b="0" lang="en-US" sz="2800" spc="-1" strike="noStrike" u="sng">
                <a:solidFill>
                  <a:srgbClr val="dbbd71"/>
                </a:solidFill>
                <a:uFillTx/>
                <a:latin typeface="Tahoma"/>
              </a:rPr>
              <a:t>word equatio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ome symbols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Copper + chlorine  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  <a:ea typeface="Arial"/>
              </a:rPr>
              <a:t>→  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copper (II) chlor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#3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 a </a:t>
            </a:r>
            <a:r>
              <a:rPr b="0" lang="en-US" sz="2800" spc="-1" strike="noStrike" u="sng">
                <a:solidFill>
                  <a:srgbClr val="dbbd71"/>
                </a:solidFill>
                <a:uFillTx/>
                <a:latin typeface="Tahoma"/>
              </a:rPr>
              <a:t>chemical equatio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only chemical equations are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Cu + Cl</a:t>
            </a:r>
            <a:r>
              <a:rPr b="1" lang="en-US" sz="28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→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 CuCl</a:t>
            </a:r>
            <a:r>
              <a:rPr b="1" lang="en-US" sz="2800" spc="-1" strike="noStrike" baseline="-25000">
                <a:solidFill>
                  <a:srgbClr val="ffcc66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25080" y="301320"/>
            <a:ext cx="8537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#4 Double Displacement Reaction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60480" y="1406520"/>
            <a:ext cx="73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AD + BC </a:t>
            </a: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AC + B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0" y="2781360"/>
            <a:ext cx="9143640" cy="1028520"/>
            <a:chOff x="0" y="2781360"/>
            <a:chExt cx="9143640" cy="1028520"/>
          </a:xfrm>
        </p:grpSpPr>
        <p:sp>
          <p:nvSpPr>
            <p:cNvPr id="326" name=""/>
            <p:cNvSpPr/>
            <p:nvPr/>
          </p:nvSpPr>
          <p:spPr>
            <a:xfrm>
              <a:off x="1765080" y="285264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140360" y="3294000"/>
              <a:ext cx="852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2313000" y="2808360"/>
              <a:ext cx="1766520" cy="985680"/>
              <a:chOff x="2313000" y="2808360"/>
              <a:chExt cx="1766520" cy="985680"/>
            </a:xfrm>
          </p:grpSpPr>
          <p:sp>
            <p:nvSpPr>
              <p:cNvPr id="329" name=""/>
              <p:cNvSpPr/>
              <p:nvPr/>
            </p:nvSpPr>
            <p:spPr>
              <a:xfrm>
                <a:off x="2313000" y="2808360"/>
                <a:ext cx="98820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91680" y="2808360"/>
                <a:ext cx="987840" cy="98568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313000" y="2808360"/>
                <a:ext cx="98820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>
                      <a:alpha val="5137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6805440" y="285264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052960" y="2781360"/>
              <a:ext cx="1804680" cy="999720"/>
              <a:chOff x="5052960" y="2781360"/>
              <a:chExt cx="1804680" cy="999720"/>
            </a:xfrm>
          </p:grpSpPr>
          <p:sp>
            <p:nvSpPr>
              <p:cNvPr id="334" name=""/>
              <p:cNvSpPr/>
              <p:nvPr/>
            </p:nvSpPr>
            <p:spPr>
              <a:xfrm>
                <a:off x="5052960" y="2794680"/>
                <a:ext cx="986760" cy="9864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870880" y="2794680"/>
                <a:ext cx="986760" cy="98640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066280" y="2781360"/>
                <a:ext cx="986760" cy="9864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>
                      <a:alpha val="55294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0" y="2822400"/>
              <a:ext cx="1779120" cy="987480"/>
              <a:chOff x="0" y="2822400"/>
              <a:chExt cx="1779120" cy="987480"/>
            </a:xfrm>
          </p:grpSpPr>
          <p:sp>
            <p:nvSpPr>
              <p:cNvPr id="338" name=""/>
              <p:cNvSpPr/>
              <p:nvPr/>
            </p:nvSpPr>
            <p:spPr>
              <a:xfrm>
                <a:off x="0" y="2822400"/>
                <a:ext cx="987840" cy="98748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91640" y="2822400"/>
                <a:ext cx="987480" cy="9874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cb50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2822400"/>
                <a:ext cx="987840" cy="98748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>
                      <a:alpha val="5137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7365960" y="2808360"/>
              <a:ext cx="1777680" cy="985680"/>
              <a:chOff x="7365960" y="2808360"/>
              <a:chExt cx="1777680" cy="985680"/>
            </a:xfrm>
          </p:grpSpPr>
          <p:sp>
            <p:nvSpPr>
              <p:cNvPr id="342" name=""/>
              <p:cNvSpPr/>
              <p:nvPr/>
            </p:nvSpPr>
            <p:spPr>
              <a:xfrm>
                <a:off x="7365960" y="2808360"/>
                <a:ext cx="98748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156160" y="2808360"/>
                <a:ext cx="987480" cy="985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cb50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365960" y="2808360"/>
                <a:ext cx="98748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>
                      <a:alpha val="49019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5" name=""/>
          <p:cNvSpPr/>
          <p:nvPr/>
        </p:nvSpPr>
        <p:spPr>
          <a:xfrm>
            <a:off x="609480" y="4271760"/>
            <a:ext cx="819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 Rounded MT Bold"/>
                <a:ea typeface="MS PGothic"/>
              </a:rPr>
              <a:t>Two compounds switch parts to make two new comp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 Rounded MT Bold"/>
                <a:ea typeface="MS PGothic"/>
              </a:rPr>
              <a:t>the general equation is :    AB + CD →  AD +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ouble Replacement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ouble Replacement Reaction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cur when a metal replaces a metal in a compound and a nonmetal replaces a nonmetal in a comp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pound + compound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mpound+ comp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 + CD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D + C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572000" y="4495680"/>
            <a:ext cx="441972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ouble Replacement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about it like “foil”ing in algebra, first and last ions go together + inside ions go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(aq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Na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Ag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Na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(aq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exam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(aq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Ba(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aq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K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(aq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Ba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(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3809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19320" y="411480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809880" y="38095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2806560"/>
            <a:ext cx="1524240" cy="698760"/>
          </a:xfrm>
          <a:custGeom>
            <a:avLst/>
            <a:gdLst/>
            <a:ahLst/>
            <a:rect l="l" t="t" r="r" b="b"/>
            <a:pathLst>
              <a:path w="1056" h="344">
                <a:moveTo>
                  <a:pt x="1056" y="296"/>
                </a:moveTo>
                <a:cubicBezTo>
                  <a:pt x="904" y="148"/>
                  <a:pt x="752" y="0"/>
                  <a:pt x="576" y="8"/>
                </a:cubicBezTo>
                <a:cubicBezTo>
                  <a:pt x="400" y="16"/>
                  <a:pt x="200" y="180"/>
                  <a:pt x="0" y="3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9480" y="5486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586728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352680" y="5486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1371600" y="4952520"/>
            <a:ext cx="6858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4952880"/>
            <a:ext cx="6094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05520" y="50292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mplete and balanc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10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assume all of the following reactions actually take place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+ NaOH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u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+ K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OH + Fe(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+ BaF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NaO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aq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HCl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aq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→  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l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NaCl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ow to recognize which type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Look at the </a:t>
            </a: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reactants</a:t>
            </a: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E + E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C + C  =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Synthesis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  =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Decomposition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E + C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  =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Single displacement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C + C   =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Double displacement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dict the products. Balance the eq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(aq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Ag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(aq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(aq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 N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(aq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b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(aq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Ba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(aq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(aq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  NaO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(aq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(aq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 NaO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(aq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(aq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Cu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(aq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5. Combustion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bustion reaction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cur when a hydrocarbon reacts with oxygen gas or met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also called burning!!! In order to burn something you need the 3 things in the “fire triangle”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) A Fuel (hydrocarbon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) Oxygen to burn it wit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) Something to ignite the reaction (spar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3533760" cy="21891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255744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ombustion Reactio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4000" y="2276640"/>
            <a:ext cx="1439640" cy="143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fu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700360" y="2276640"/>
            <a:ext cx="1440000" cy="143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6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09440" y="234936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60640" y="2967120"/>
            <a:ext cx="1295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2473800">
            <a:off x="5235120" y="892080"/>
            <a:ext cx="3908520" cy="3689280"/>
          </a:xfrm>
          <a:prstGeom prst="irregularSeal2">
            <a:avLst/>
          </a:pr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55640" y="4869000"/>
            <a:ext cx="77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reaction of a fuel with oxygen, releasing energy in the form of heat and/or 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21200" y="1819440"/>
            <a:ext cx="2843280" cy="175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cca500"/>
                </a:solidFill>
                <a:latin typeface="Arial"/>
                <a:ea typeface="Arial"/>
              </a:rPr>
              <a:t>X</a:t>
            </a:r>
            <a:r>
              <a:rPr b="0" lang="en-US" sz="4400" spc="-1" strike="noStrike" baseline="-25000">
                <a:solidFill>
                  <a:srgbClr val="cca500"/>
                </a:solidFill>
                <a:latin typeface="Arial"/>
                <a:ea typeface="Arial"/>
              </a:rPr>
              <a:t>y</a:t>
            </a:r>
            <a:r>
              <a:rPr b="0" lang="en-US" sz="4400" spc="-1" strike="noStrike">
                <a:solidFill>
                  <a:srgbClr val="cca500"/>
                </a:solidFill>
                <a:latin typeface="Arial"/>
                <a:ea typeface="Arial"/>
              </a:rPr>
              <a:t>O</a:t>
            </a:r>
            <a:r>
              <a:rPr b="0" lang="en-US" sz="4400" spc="-1" strike="noStrike" baseline="-25000">
                <a:solidFill>
                  <a:srgbClr val="cca500"/>
                </a:solidFill>
                <a:latin typeface="Arial"/>
                <a:ea typeface="Arial"/>
              </a:rPr>
              <a:t>z </a:t>
            </a:r>
            <a:r>
              <a:rPr b="0" lang="en-US" sz="4400" spc="-1" strike="noStrike">
                <a:solidFill>
                  <a:srgbClr val="cca500"/>
                </a:solidFill>
                <a:latin typeface="Arial"/>
                <a:ea typeface="Arial"/>
              </a:rPr>
              <a:t>+ energy</a:t>
            </a:r>
            <a:r>
              <a:rPr b="0" lang="en-US" sz="4400" spc="-1" strike="noStrike" baseline="-25000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mbustion Reaction Exampl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560" y="869760"/>
            <a:ext cx="883908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What is the main purpose for which fuels are burned around the worl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The following equations show what happens when different carbon-based fuels are bur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spcAft>
                <a:spcPts val="119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C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→   C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spcAft>
                <a:spcPts val="104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C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4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2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→  C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2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O  + 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spcAft>
                <a:spcPts val="104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ethanol CH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3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CH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OH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l)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+  O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→  CO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+  3H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O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40000"/>
              </a:lnSpc>
              <a:spcBef>
                <a:spcPts val="700"/>
              </a:spcBef>
              <a:spcAft>
                <a:spcPts val="104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6(s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6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6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6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(g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 rot="1993800">
            <a:off x="6756480" y="677520"/>
            <a:ext cx="2581200" cy="149220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520" y="30168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mbustion Rea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09520" y="663480"/>
            <a:ext cx="7488360" cy="1440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Element + 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“oxide” + </a:t>
            </a:r>
            <a:r>
              <a:rPr b="0" lang="en-US" sz="4400" spc="-1" strike="noStrike">
                <a:solidFill>
                  <a:srgbClr val="cca500"/>
                </a:solidFill>
                <a:latin typeface="Arial"/>
                <a:ea typeface="Arial"/>
              </a:rPr>
              <a:t>energy</a:t>
            </a:r>
            <a:r>
              <a:rPr b="0" lang="en-US" sz="6000" spc="-1" strike="noStrike">
                <a:solidFill>
                  <a:srgbClr val="cca500"/>
                </a:solidFill>
                <a:latin typeface="Arial"/>
                <a:ea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00720" y="2133720"/>
            <a:ext cx="1440000" cy="143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-225360" y="2143080"/>
            <a:ext cx="5083200" cy="4714560"/>
            <a:chOff x="-225360" y="2143080"/>
            <a:chExt cx="5083200" cy="4714560"/>
          </a:xfrm>
        </p:grpSpPr>
        <p:pic>
          <p:nvPicPr>
            <p:cNvPr id="386" name="" descr=""/>
            <p:cNvPicPr/>
            <p:nvPr/>
          </p:nvPicPr>
          <p:blipFill>
            <a:blip r:embed="rId1"/>
            <a:stretch/>
          </p:blipFill>
          <p:spPr>
            <a:xfrm>
              <a:off x="-225360" y="2635200"/>
              <a:ext cx="5083200" cy="42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221040" y="2143080"/>
              <a:ext cx="4033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Mg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(s)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 O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(g)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2MgO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(s)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 energ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025880" y="2224080"/>
            <a:ext cx="4788000" cy="4633920"/>
            <a:chOff x="4025880" y="2224080"/>
            <a:chExt cx="4788000" cy="463392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4025880" y="2701800"/>
              <a:ext cx="4788000" cy="41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4802760" y="2224080"/>
              <a:ext cx="383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4(s)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 5O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(g)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P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10(g)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 energ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ymbols in Equa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s) after the formula = solid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F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g) after the formula = gas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l) after the formula = liquid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aq) after the formula = dissolved in water, an  aqueous solution: Na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aq)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s a salt water 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ombustion of other Fuel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823752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fuels do not contain carb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s are oxides of each element in the fue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Mg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→  Mg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Cu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 →  Cu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 →  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l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(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5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0(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you see, many combustion reactions may also be classified as synth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Combustion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Combustion is a fast reaction of a substance with oxygen to make compounds called </a:t>
            </a:r>
            <a:r>
              <a:rPr b="1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oxides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the general equation is : 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fuel + oxygen 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→  oxides +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the three things that must be present for combustion to happen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fu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spark / h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mbustion Reaction Exampl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560" y="869760"/>
            <a:ext cx="883908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What is the main purpose for which fuels are burned around the worl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The following equations show what happens when different carbon-based fuels are bur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spcAft>
                <a:spcPts val="119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C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→   C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spcAft>
                <a:spcPts val="104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C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4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2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→  C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2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O  + 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spcAft>
                <a:spcPts val="104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ethanol CH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3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CH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OH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l)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+  O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→  CO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  +  3H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O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40000"/>
              </a:lnSpc>
              <a:spcBef>
                <a:spcPts val="700"/>
              </a:spcBef>
              <a:spcAft>
                <a:spcPts val="104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6(s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6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  <a:ea typeface="MS PGothic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6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6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(g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ombustion of other Fuel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823752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fuels do not contain carb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s are oxides of each element in the fue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Mg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→  Mg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Cu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 →  Cu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+  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(g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  →  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O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  <a:ea typeface="MS PGothic"/>
              </a:rPr>
              <a:t>(l)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(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5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0(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  <a:ea typeface="MS PGothic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you see, many combustion reactions may also be classified as synth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4876920" y="2701800"/>
            <a:ext cx="3995640" cy="31975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0" y="2752560"/>
            <a:ext cx="5003640" cy="33404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5120" y="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ncomplete Combus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784520" y="3979800"/>
            <a:ext cx="3816360" cy="1150920"/>
            <a:chOff x="1784520" y="3979800"/>
            <a:chExt cx="3816360" cy="1150920"/>
          </a:xfrm>
        </p:grpSpPr>
        <p:sp>
          <p:nvSpPr>
            <p:cNvPr id="403" name=""/>
            <p:cNvSpPr/>
            <p:nvPr/>
          </p:nvSpPr>
          <p:spPr>
            <a:xfrm>
              <a:off x="4664520" y="3979800"/>
              <a:ext cx="936360" cy="792360"/>
            </a:xfrm>
            <a:prstGeom prst="ellipse">
              <a:avLst/>
            </a:prstGeom>
            <a:noFill/>
            <a:ln w="3816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84520" y="4627800"/>
              <a:ext cx="2952720" cy="502920"/>
            </a:xfrm>
            <a:prstGeom prst="wedgeRoundRectCallout">
              <a:avLst>
                <a:gd name="adj1" fmla="val 55324"/>
                <a:gd name="adj2" fmla="val -42430"/>
                <a:gd name="adj3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POISONOUS!!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0" y="692280"/>
            <a:ext cx="9144000" cy="63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If there is not enough oxygen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then incomplete combustion occur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producing poisonous carbon monoxide ga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(which is invisible and has no odor, colour or taste)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It is especially dangerous when produced indoors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by damaged furnaces or the burning of fuels indoor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a500"/>
                </a:solidFill>
                <a:latin typeface="Arial"/>
                <a:ea typeface="Arial"/>
              </a:rPr>
              <a:t>Hydrocarbon + oxygen </a:t>
            </a:r>
            <a:r>
              <a:rPr b="1" lang="en-US" sz="2400" spc="-1" strike="noStrike">
                <a:solidFill>
                  <a:srgbClr val="cca5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cca5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a5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cca500"/>
                </a:solidFill>
                <a:latin typeface="Arial"/>
                <a:ea typeface="Arial"/>
              </a:rPr>
              <a:t>carbon dioxide + water + carbon monoxide + carbon + </a:t>
            </a:r>
            <a:r>
              <a:rPr b="1" lang="en-US" sz="2000" spc="-1" strike="noStrike">
                <a:solidFill>
                  <a:srgbClr val="cca500"/>
                </a:solidFill>
                <a:latin typeface="Arial"/>
                <a:ea typeface="Arial"/>
              </a:rPr>
              <a:t>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.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Rounded MT Bold"/>
                <a:ea typeface="Arial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Rounded MT Bold"/>
                <a:ea typeface="Arial"/>
              </a:rPr>
              <a:t>10(g)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+ 5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Rounded MT Bold"/>
                <a:ea typeface="Arial"/>
              </a:rPr>
              <a:t>2(g)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2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Rounded MT Bold"/>
                <a:ea typeface="Arial"/>
              </a:rPr>
              <a:t>2(g)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+ 5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Rounded MT Bold"/>
                <a:ea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Rounded MT Bold"/>
                <a:ea typeface="Arial"/>
              </a:rPr>
              <a:t>(g)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+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Rounded MT Bold"/>
                <a:ea typeface="Arial"/>
              </a:rPr>
              <a:t>(g)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+ 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Rounded MT Bold"/>
                <a:ea typeface="Arial"/>
              </a:rPr>
              <a:t>(s)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+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938840" y="3965400"/>
            <a:ext cx="2519280" cy="1727280"/>
            <a:chOff x="4938840" y="3965400"/>
            <a:chExt cx="2519280" cy="1727280"/>
          </a:xfrm>
        </p:grpSpPr>
        <p:sp>
          <p:nvSpPr>
            <p:cNvPr id="407" name=""/>
            <p:cNvSpPr/>
            <p:nvPr/>
          </p:nvSpPr>
          <p:spPr>
            <a:xfrm>
              <a:off x="6810480" y="3965400"/>
              <a:ext cx="647640" cy="792360"/>
            </a:xfrm>
            <a:prstGeom prst="ellipse">
              <a:avLst/>
            </a:prstGeom>
            <a:noFill/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38840" y="5189400"/>
              <a:ext cx="2160360" cy="503280"/>
            </a:xfrm>
            <a:prstGeom prst="wedgeRoundRectCallout">
              <a:avLst>
                <a:gd name="adj1" fmla="val 51986"/>
                <a:gd name="adj2" fmla="val -141166"/>
                <a:gd name="adj3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Arial Black"/>
                  <a:ea typeface="Arial"/>
                </a:rPr>
                <a:t>BLACK!!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114800" y="2282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ombustion React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4196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4800600" y="2666880"/>
            <a:ext cx="4038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gar Allen Poe’s drooping eyes and mouth are potential signs of CO poiso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UMMARY: An equation..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scribes a rea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ust be balanced in order to follow the Law of Conservation of Ma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an only be balanced by changing the </a:t>
            </a:r>
            <a:r>
              <a:rPr b="1" lang="en-US" sz="3600" spc="-1" strike="noStrike" u="sng">
                <a:solidFill>
                  <a:srgbClr val="dbbd71"/>
                </a:solidFill>
                <a:uFillTx/>
                <a:latin typeface="Tahoma"/>
              </a:rPr>
              <a:t>coefficient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as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special symbols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to indicate the physical state, if a catalyst or energy is required, etc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Mixed Practi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Identify the type of reaction for each of the following synthesis or decomposition reactions, and write the balanced equation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(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 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(s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(g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(aq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(s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3048120" y="38862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make Co be +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2590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trogen mon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ixed Practice #2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type, predict the products, and balance the following reac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n + Cu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 + B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4267080" y="266688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62520" y="388620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0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ymbols used in equa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rrow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arates the reactants from the products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rrow point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duc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as: “reacts to form” or yiel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lus sign + means “an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↑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d after a product indicates a gas has been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produced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  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↑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↓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d after a product indicates a solid has been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produced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   Pb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ymbols used in equa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uble arrow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cates a reversible reaction (more later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ows that heat is supplied to the rea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 used to indicate a catalyst is supplied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(in this case, platinum is the catalyst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1219320"/>
            <a:ext cx="1295280" cy="152280"/>
            <a:chOff x="914400" y="1219320"/>
            <a:chExt cx="1295280" cy="152280"/>
          </a:xfrm>
        </p:grpSpPr>
        <p:sp>
          <p:nvSpPr>
            <p:cNvPr id="170" name=""/>
            <p:cNvSpPr/>
            <p:nvPr/>
          </p:nvSpPr>
          <p:spPr>
            <a:xfrm>
              <a:off x="914400" y="1371600"/>
              <a:ext cx="1295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57400" y="1219320"/>
              <a:ext cx="152280" cy="152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914040" y="1523880"/>
            <a:ext cx="1295640" cy="152640"/>
            <a:chOff x="914040" y="1523880"/>
            <a:chExt cx="1295640" cy="152640"/>
          </a:xfrm>
        </p:grpSpPr>
        <p:sp>
          <p:nvSpPr>
            <p:cNvPr id="173" name=""/>
            <p:cNvSpPr/>
            <p:nvPr/>
          </p:nvSpPr>
          <p:spPr>
            <a:xfrm flipH="1">
              <a:off x="914400" y="1523880"/>
              <a:ext cx="1295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914040" y="1523880"/>
              <a:ext cx="152280" cy="152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14400" y="2438280"/>
                <a:ext cx="59212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,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 heat  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066680" y="3733920"/>
                <a:ext cx="20574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 Pt  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rite a </a:t>
            </a: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skeleton equation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for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lid iron (III) sulfide reacts with gaseous hydrogen chloride to form iron (III) chloride and  hydrogen sulfide g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itric acid dissolved in water reacts with solid sodium carbonate to form liquid water and carbon dioxide gas and sodium nitrate dissolved in wa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1. Synthesis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ynthesis rea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ccur when two substances (generally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lemen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combine and form a compound.  (Sometimes these are called combination or addition reactions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actant + reactant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1 produ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ically: A + B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971800" y="4952880"/>
            <a:ext cx="426708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22:07:18Z</dcterms:created>
  <dc:creator>Neil Rapp</dc:creator>
  <dc:description/>
  <cp:keywords>chemical reactions synthesis combination addition decomposition single replacement double replacement metathesis combustion</cp:keywords>
  <dc:language>en-US</dc:language>
  <cp:lastModifiedBy>Natalya</cp:lastModifiedBy>
  <dcterms:modified xsi:type="dcterms:W3CDTF">2011-09-28T04:14:07Z</dcterms:modified>
  <cp:revision>54</cp:revision>
  <dc:subject>Chemistry I (High School)</dc:subject>
  <dc:title>Chemical Reactions </dc:title>
</cp:coreProperties>
</file>